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1A0-D7D7-4434-BB9A-8E6C1617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AF8-5C05-4FBA-83AE-AF150135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7D2-82BE-45BC-896B-A63D15DB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FD6-68FB-4805-B233-C352D30E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C36-1D30-41D3-9B93-80BFAA6E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37B-2226-40A4-8841-54774A37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D62-7A25-401E-A52F-B6E2C536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B2C-FDA3-4C9C-BCBB-81C1F42F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C95-2F3E-4D2E-BF9D-17E42346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B841-2436-4702-BC64-823F702E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B4D-71E2-4D38-9B1F-5A1A3530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EB3-E3B4-4C3D-881C-1DD09C09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8A6B-E51B-4BD2-84BD-E3ECCF743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0BD7-1E2D-4821-A5F7-1E64FD3F0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ular Respo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 method of studying muscle function is to remove a single fiber and connect it to a device that records its responses to electrical st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shold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ing a Muscular Cont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mm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ruitment of Motor Un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A motor neuron and the muscle fibers it controls ma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 a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otor un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 when stimulated to do so, the musc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bers of the motor unit contract all at o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 An increase in the number of activated motor uni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thin a muscle at higher intensities of stimulation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l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crui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F6F9-16FF-4AC6-9142-39D431A65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ular Respo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 method of studying muscle function is to remove a single fiber and connect it to a device that records its responses to electrical st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shold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ing a Muscular Cont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mm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ruitment of Motor Un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stained Contr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Summation and recruitment together can produce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stained contr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increasing str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uscle t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chieved by a continuous stat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stained contraction of motor units within a mus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41F5-E888-4409-9C79-02289DCF3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mooth Musc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 Smooth Muscle Fi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Smooth muscle cells are elongated with tapered end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ck striations and have a relatively undevelo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rcoplasmic reticul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Multiunit smooth muscle and visceral muscle are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ypes of smooth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In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ultiunit smooth mus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such as i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lood vessels and iris of the eye, fibers occ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ly rather than as she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Visceral smooth mus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ccurs in sheets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found in the walls of hollow organs; these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stimulate one another and displa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hythmi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are thus responsible for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peristal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hol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s and tub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90AB-358B-4B64-8B29-4C1A1C786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mooth Musc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 Smooth Muscle Fi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ooth 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The myosin-binding-to-actin mechanism is mostly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me for smooth muscles and skeletal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Both acetylcholine and norepinephrine stimulate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smooth muscle contraction, depending o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mus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Hormones can also stimulate or inhibit con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Smooth muscle is slower to contract and relax than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, but can contract longer using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mount of AT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B74E-1BBC-42CB-B02B-69A543AA8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rdiac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 Almost the same mechanism of contraction 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and smooth muscle, but with so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 Cardiac muscle has transverse tubules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extra calcium, and can thus contract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nger peri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 Complex membrane junctions, cal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calated dis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join cells and transmit the fo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 contraction from one cell to the next, as well 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id in the rapid transmission of impul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out the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 Cardiac muscle is self-exciting and rhythmic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 whole structure contracts as a un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B3E4-6BF2-45CF-8BE6-900079E52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A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 and In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Immovable end of a muscle is the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Movable end is the inser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Contraction pulls the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oward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Some muscles have more than one 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 ori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action of Skeletal Mus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Of a group of muscles, the one doing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jority of the work is the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prime mover/agon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Helper muscles are called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ynerg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posing muscles are called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ntagonist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7"/>
          <p:cNvSpPr/>
          <p:nvPr/>
        </p:nvSpPr>
        <p:spPr>
          <a:xfrm>
            <a:off x="0" y="39600"/>
            <a:ext cx="157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08.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1447920" y="378000"/>
            <a:ext cx="6248160" cy="64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447920" y="378000"/>
            <a:ext cx="6245280" cy="6397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1714680" y="4384800"/>
            <a:ext cx="675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2349360" y="4527720"/>
            <a:ext cx="99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61400" y="5159520"/>
            <a:ext cx="1325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sertion o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iceps brachi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57440" y="540396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2749680" y="5295960"/>
            <a:ext cx="1682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754800" y="3527280"/>
            <a:ext cx="651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ice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rachi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3753000" y="377496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4435560" y="3664080"/>
            <a:ext cx="1006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3753000" y="2197080"/>
            <a:ext cx="974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ndon o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ng he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3759120" y="244152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3769560" y="2847960"/>
            <a:ext cx="1021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ndon o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rt he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3759120" y="309240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4762440" y="2333520"/>
            <a:ext cx="1149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9"/>
          <p:cNvSpPr/>
          <p:nvPr/>
        </p:nvSpPr>
        <p:spPr>
          <a:xfrm>
            <a:off x="4772160" y="2276640"/>
            <a:ext cx="1724040" cy="711000"/>
          </a:xfrm>
          <a:custGeom>
            <a:avLst/>
            <a:gdLst>
              <a:gd name="textAreaLeft" fmla="*/ 0 w 1724040"/>
              <a:gd name="textAreaRight" fmla="*/ 1724400 w 172404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1086" h="448">
                <a:moveTo>
                  <a:pt x="0" y="448"/>
                </a:moveTo>
                <a:lnTo>
                  <a:pt x="188" y="448"/>
                </a:lnTo>
                <a:lnTo>
                  <a:pt x="108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3815280" y="679320"/>
            <a:ext cx="1684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racoid pro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1"/>
          <p:cNvSpPr/>
          <p:nvPr/>
        </p:nvSpPr>
        <p:spPr>
          <a:xfrm>
            <a:off x="5479920" y="816120"/>
            <a:ext cx="1324080" cy="790560"/>
          </a:xfrm>
          <a:custGeom>
            <a:avLst/>
            <a:gdLst>
              <a:gd name="textAreaLeft" fmla="*/ 0 w 1324080"/>
              <a:gd name="textAreaRight" fmla="*/ 1324080 w 132408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34" h="498">
                <a:moveTo>
                  <a:pt x="0" y="0"/>
                </a:moveTo>
                <a:lnTo>
                  <a:pt x="92" y="0"/>
                </a:lnTo>
                <a:lnTo>
                  <a:pt x="834" y="49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3750480" y="1527120"/>
            <a:ext cx="1325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igins o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iceps brachi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3746520" y="177156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4"/>
          <p:cNvSpPr/>
          <p:nvPr/>
        </p:nvSpPr>
        <p:spPr>
          <a:xfrm>
            <a:off x="4708440" y="1647720"/>
            <a:ext cx="2013120" cy="111240"/>
          </a:xfrm>
          <a:custGeom>
            <a:avLst/>
            <a:gdLst>
              <a:gd name="textAreaLeft" fmla="*/ 0 w 2013120"/>
              <a:gd name="textAreaRight" fmla="*/ 2013480 w 20131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1268" h="70">
                <a:moveTo>
                  <a:pt x="0" y="0"/>
                </a:moveTo>
                <a:lnTo>
                  <a:pt x="228" y="0"/>
                </a:lnTo>
                <a:lnTo>
                  <a:pt x="1268" y="7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5"/>
          <p:cNvSpPr/>
          <p:nvPr/>
        </p:nvSpPr>
        <p:spPr>
          <a:xfrm>
            <a:off x="5070600" y="1647720"/>
            <a:ext cx="142560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6"/>
          <p:cNvSpPr/>
          <p:nvPr/>
        </p:nvSpPr>
        <p:spPr>
          <a:xfrm>
            <a:off x="2468880" y="530280"/>
            <a:ext cx="426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2914560" y="530280"/>
            <a:ext cx="36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2987640" y="53028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53E1-190E-4249-9216-B12E3D2C4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24:38Z</dcterms:created>
  <dc:creator>ITR </dc:creator>
  <dc:description/>
  <dc:language>en-US</dc:language>
  <cp:lastModifiedBy>gibsonbrownr</cp:lastModifiedBy>
  <dcterms:modified xsi:type="dcterms:W3CDTF">2012-01-03T01:03:02Z</dcterms:modified>
  <cp:revision>128</cp:revision>
  <dc:subject/>
  <dc:title>PowerPoint Presentation</dc:title>
</cp:coreProperties>
</file>